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8C50-12A0-47A9-8657-7F45FAB1E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9127-3DEA-45AD-9A1F-D302CB30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5543-08F3-41F8-997E-6C519CD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DEE6-5FA5-46DD-B472-F2090BE79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F7C5-20D8-4F3F-80D4-8A23F38A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FA9F-797F-4703-8968-55DBB0D4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BAA3-B6EC-4F4A-A75B-20224FD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D677-A0F7-4DB7-AA30-9E5013C7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EF27-AE29-49BC-B238-1CB3D156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B476-5A58-425D-9969-A889B6B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071D-5A77-4C25-94CA-CB3265AA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C163-5C1A-4076-8CB5-F9CEBA41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002d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d1002d"/>
              </a:buClr>
              <a:buSzPct val="75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621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2B2-3EE6-41C3-A6E9-FE8172F2AA8E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0" descr="bande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PRINCIPE DE PROPORTIONNALIT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STI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PORTIONNA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E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4720" y="2220840"/>
            <a:ext cx="64800" cy="2351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822320" y="4572000"/>
            <a:ext cx="7858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20130000">
            <a:off x="944640" y="2107800"/>
            <a:ext cx="26827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84320" y="270828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84440" y="157320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0880" y="3300480"/>
            <a:ext cx="201204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AVANT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14760" y="2038320"/>
            <a:ext cx="158580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5881680" y="4508640"/>
            <a:ext cx="7840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273720" y="2093760"/>
            <a:ext cx="65160" cy="241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 rot="1203600">
            <a:off x="5095440" y="209376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5160960" y="17128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7713720" y="26020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515640" y="3048120"/>
            <a:ext cx="2626200" cy="84420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655520" y="2158920"/>
            <a:ext cx="120132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AVAN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MILI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4440240" y="1413000"/>
            <a:ext cx="0" cy="540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644120" y="5270400"/>
            <a:ext cx="1123560" cy="676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808080"/>
                </a:solidFill>
                <a:latin typeface="Garamond"/>
                <a:ea typeface="Arial"/>
              </a:rPr>
              <a:t>OU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778360" y="5208480"/>
            <a:ext cx="1335240" cy="676800"/>
          </a:xfrm>
          <a:prstGeom prst="rect">
            <a:avLst/>
          </a:prstGeom>
          <a:solidFill>
            <a:srgbClr val="f41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000000"/>
                </a:solidFill>
                <a:latin typeface="Garamond"/>
                <a:ea typeface="Arial"/>
              </a:rPr>
              <a:t>N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462-1010-4D4D-A879-BDE7662DA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001B"/>
          <p:cNvPicPr/>
          <p:nvPr/>
        </p:nvPicPr>
        <p:blipFill>
          <a:blip r:embed="rId1"/>
          <a:stretch/>
        </p:blipFill>
        <p:spPr>
          <a:xfrm>
            <a:off x="1773360" y="1752480"/>
            <a:ext cx="643392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3635280" y="3741840"/>
            <a:ext cx="32418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Times New Roman"/>
              </a:rPr>
              <a:t>légitime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estruction massive"/>
          <p:cNvPicPr/>
          <p:nvPr/>
        </p:nvPicPr>
        <p:blipFill>
          <a:blip r:embed="rId1"/>
          <a:stretch/>
        </p:blipFill>
        <p:spPr>
          <a:xfrm>
            <a:off x="1403280" y="1700280"/>
            <a:ext cx="734544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-p-bo-e-00090"/>
          <p:cNvPicPr/>
          <p:nvPr/>
        </p:nvPicPr>
        <p:blipFill>
          <a:blip r:embed="rId1"/>
          <a:stretch/>
        </p:blipFill>
        <p:spPr>
          <a:xfrm>
            <a:off x="1103400" y="1273320"/>
            <a:ext cx="7572240" cy="4903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12"/>
          <p:cNvSpPr/>
          <p:nvPr/>
        </p:nvSpPr>
        <p:spPr>
          <a:xfrm>
            <a:off x="422640" y="2987640"/>
            <a:ext cx="2056320" cy="2093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ONCER S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E RHIN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A RUH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ET METT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IN A L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GUER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-401760" y="1790640"/>
            <a:ext cx="9106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De juin à novembre 1944, les bombardements alliés su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l'infrastructure de la France occupé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662280" y="5697360"/>
            <a:ext cx="785880" cy="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680" bIns="22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052880" y="3365640"/>
            <a:ext cx="65160" cy="235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20208000">
            <a:off x="2787480" y="330804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882880" y="3807000"/>
            <a:ext cx="0" cy="5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351400" y="2862360"/>
            <a:ext cx="0" cy="44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950120" y="4311720"/>
            <a:ext cx="195408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NECESSI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0" y="3303720"/>
            <a:ext cx="1585800" cy="50868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6326280" y="2798640"/>
            <a:ext cx="2597040" cy="376920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CIVILS </a:t>
            </a: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(beaucoup d'enfa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TUES : 3.1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BLESSES: 5.22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DETR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HOPITAUX : 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GLISES : 4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COLES : 11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MAISONS : 31.1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ZoneTexte 15"/>
          <p:cNvSpPr/>
          <p:nvPr/>
        </p:nvSpPr>
        <p:spPr>
          <a:xfrm>
            <a:off x="1260360" y="5950080"/>
            <a:ext cx="7704360" cy="13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Garamond"/>
                <a:ea typeface="Arial"/>
              </a:rPr>
              <a:t>Selon vous, est-ce proportionnel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8:58:17Z</dcterms:created>
  <dc:creator>CICR</dc:creator>
  <dc:description/>
  <dc:language>en-US</dc:language>
  <cp:lastModifiedBy>ICRC</cp:lastModifiedBy>
  <dcterms:modified xsi:type="dcterms:W3CDTF">2013-07-16T16:18:13Z</dcterms:modified>
  <cp:revision>89</cp:revision>
  <dc:subject/>
  <dc:title>International Committee  of the Red Cross</dc:title>
</cp:coreProperties>
</file>